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zech Technology Platform Interoperability of Railway Infrastruc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24.,25.11. 20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92320" y="1250640"/>
            <a:ext cx="4497120" cy="337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812840"/>
            <a:ext cx="5505480" cy="3938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01120"/>
            <a:ext cx="298296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Prometni institut Ljublja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9501120"/>
            <a:ext cx="298296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6089-2887-4E92-BB8E-D469D9A8AEC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2320" y="1251000"/>
            <a:ext cx="4497120" cy="3375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8680" y="4812840"/>
            <a:ext cx="5505480" cy="39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6"/>
          <p:cNvSpPr/>
          <p:nvPr/>
        </p:nvSpPr>
        <p:spPr>
          <a:xfrm>
            <a:off x="3897360" y="9501120"/>
            <a:ext cx="29829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7E98-D7BE-4819-A0AC-FA8DB2DA085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2320" y="1251000"/>
            <a:ext cx="4497120" cy="3375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8680" y="4812840"/>
            <a:ext cx="5505480" cy="39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záhlaví 3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zech Technology Platform Interoperability of Railway Infrastruc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datum 4"/>
          <p:cNvSpPr/>
          <p:nvPr/>
        </p:nvSpPr>
        <p:spPr>
          <a:xfrm>
            <a:off x="389736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24.,25.11. 20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zápatí 5"/>
          <p:cNvSpPr/>
          <p:nvPr/>
        </p:nvSpPr>
        <p:spPr>
          <a:xfrm>
            <a:off x="0" y="9501120"/>
            <a:ext cx="29829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rometni institut Ljublja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ástupný symbol pro číslo snímku 6"/>
          <p:cNvSpPr/>
          <p:nvPr/>
        </p:nvSpPr>
        <p:spPr>
          <a:xfrm>
            <a:off x="3897360" y="9501120"/>
            <a:ext cx="29829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9E5E-1609-4CF7-BAB8-DCB34365788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BAE-0223-40DA-80D3-53BDC0E9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52F-95BF-4B8C-8B1B-9CF1AE9D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073-5093-4B0F-81F1-AB4CFDF7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EE1-9E9D-4A81-95B1-AE2DE28F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1F10-E651-42B6-8198-610D7D9D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B44E-1B82-4C03-87B2-C6ACFC2D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0363-85A7-4A67-B574-84F3C2BD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CE83-4008-4587-B1F4-A0D45793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18C4-BE3F-4491-81D9-63B7A94E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4263-3555-496B-B9AB-B0DC2BC1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E604-2E2E-4AB1-96B0-F311A4C2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865-987B-4B39-89F9-5E5F56BC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445D-84C2-4D62-95CE-23E48036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DDD7-C4EB-4454-8CD7-1089DF63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FA12-F436-43D9-9571-35B49232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34B9-DF95-4DC5-B08F-5CFDFDC5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CE4F-3B11-491A-A6FA-93B5EC0F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392-7C25-423F-90AD-48CCBEF2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4D1-6C9F-469C-85B9-8B1F0829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241-F9EA-4001-A17D-9C844DDA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D89-F0F8-4792-8D50-9A6AE5D2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A44-1ABB-4FA6-A1B2-2ED9D01D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730-F4F4-41E6-B01E-6BEE48A6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55C-92A1-4019-84AE-6AA8BCD9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Datum:    18.05.2021                                  Místo: Praha, on-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Jednání Správní rady 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D468-7AB3-4DC7-BDC7-7DE2846CB35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Datum:    18.05.2021                                  Místo: Praha, on-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Jednání Správní rady 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91DC-7BB8-40C0-AB99-6EEAEC2B5E8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1125000"/>
            <a:ext cx="547236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Nadpis 3"/>
          <p:cNvSpPr/>
          <p:nvPr/>
        </p:nvSpPr>
        <p:spPr>
          <a:xfrm>
            <a:off x="228600" y="1382760"/>
            <a:ext cx="544500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 Narrow"/>
                <a:ea typeface="Calibri"/>
              </a:rPr>
              <a:t>Závěrečná odborná konference projektu Cestovní mapa modernizace silniční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Calibri"/>
              </a:rPr>
              <a:t>Cestovní map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Calibri"/>
              </a:rPr>
              <a:t>Moderní technologie při přípravě a realizaci VRT v Č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Calibri"/>
              </a:rPr>
              <a:t>Ing. Jaroslav Vašá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80" y="3429000"/>
            <a:ext cx="54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 Narrow"/>
              </a:rPr>
              <a:t>Datum: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 27. 5. 2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ísto: 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ww.zubrizeme.cz/obrazky/texty-doprovodne/84-op-pik-logo.png"/>
          <p:cNvPicPr/>
          <p:nvPr/>
        </p:nvPicPr>
        <p:blipFill>
          <a:blip r:embed="rId1"/>
          <a:stretch/>
        </p:blipFill>
        <p:spPr>
          <a:xfrm>
            <a:off x="14400" y="5910120"/>
            <a:ext cx="3479760" cy="947880"/>
          </a:xfrm>
          <a:prstGeom prst="rect">
            <a:avLst/>
          </a:prstGeom>
          <a:ln w="0">
            <a:noFill/>
          </a:ln>
        </p:spPr>
      </p:pic>
      <p:pic>
        <p:nvPicPr>
          <p:cNvPr id="93" name="Obrázek 7" descr="logo platforma finale pro zpravodaj.jpg"/>
          <p:cNvPicPr/>
          <p:nvPr/>
        </p:nvPicPr>
        <p:blipFill>
          <a:blip r:embed="rId2"/>
          <a:stretch/>
        </p:blipFill>
        <p:spPr>
          <a:xfrm>
            <a:off x="6372360" y="6021360"/>
            <a:ext cx="2501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atum:   27. 5. 2022                                  Místo: Pra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zápatí 2"/>
          <p:cNvSpPr/>
          <p:nvPr/>
        </p:nvSpPr>
        <p:spPr>
          <a:xfrm>
            <a:off x="3995640" y="6245280"/>
            <a:ext cx="345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 Narrow"/>
                <a:ea typeface="Calibri"/>
              </a:rPr>
              <a:t>Závěrečná odborná konference projektu Cestovní mapa modernizace silniční dopr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507E-AEF9-4174-A2B1-413DFFF92E6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http://www.zubrizeme.cz/obrazky/texty-doprovodne/84-op-pik-logo.png"/>
          <p:cNvPicPr/>
          <p:nvPr/>
        </p:nvPicPr>
        <p:blipFill>
          <a:blip r:embed="rId1"/>
          <a:stretch/>
        </p:blipFill>
        <p:spPr>
          <a:xfrm>
            <a:off x="539640" y="19080"/>
            <a:ext cx="3025800" cy="82224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0" descr="logo platforma finale pro zpravodaj.jpg"/>
          <p:cNvPicPr/>
          <p:nvPr/>
        </p:nvPicPr>
        <p:blipFill>
          <a:blip r:embed="rId2"/>
          <a:stretch/>
        </p:blipFill>
        <p:spPr>
          <a:xfrm>
            <a:off x="6227640" y="38160"/>
            <a:ext cx="2502000" cy="64764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6"/>
          <p:cNvSpPr/>
          <p:nvPr/>
        </p:nvSpPr>
        <p:spPr>
          <a:xfrm>
            <a:off x="890640" y="8618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lavní směry rozvoje VRT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rázek 9" descr=""/>
          <p:cNvPicPr/>
          <p:nvPr/>
        </p:nvPicPr>
        <p:blipFill>
          <a:blip r:embed="rId3"/>
          <a:stretch/>
        </p:blipFill>
        <p:spPr>
          <a:xfrm>
            <a:off x="755640" y="1395360"/>
            <a:ext cx="77770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Zástupný symbol pro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atum:    27 .5. 2022                                  Místo: Pra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ástupný symbol pro zápatí 2"/>
          <p:cNvSpPr/>
          <p:nvPr/>
        </p:nvSpPr>
        <p:spPr>
          <a:xfrm>
            <a:off x="3657600" y="6208560"/>
            <a:ext cx="35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 Narrow"/>
                <a:ea typeface="Calibri"/>
              </a:rPr>
              <a:t>Závěrečná odborná konference projektu Cestovní mapa modernizace silniční dopr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CED5-A545-4A14-A7C2-CBE480B0702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www.zubrizeme.cz/obrazky/texty-doprovodne/84-op-pik-logo.png"/>
          <p:cNvPicPr/>
          <p:nvPr/>
        </p:nvPicPr>
        <p:blipFill>
          <a:blip r:embed="rId1"/>
          <a:stretch/>
        </p:blipFill>
        <p:spPr>
          <a:xfrm>
            <a:off x="539640" y="19080"/>
            <a:ext cx="3025800" cy="82224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0" descr="logo platforma finale pro zpravodaj.jpg"/>
          <p:cNvPicPr/>
          <p:nvPr/>
        </p:nvPicPr>
        <p:blipFill>
          <a:blip r:embed="rId2"/>
          <a:stretch/>
        </p:blipFill>
        <p:spPr>
          <a:xfrm>
            <a:off x="6227640" y="38160"/>
            <a:ext cx="2502000" cy="647640"/>
          </a:xfrm>
          <a:prstGeom prst="rect">
            <a:avLst/>
          </a:prstGeom>
          <a:ln w="0">
            <a:noFill/>
          </a:ln>
        </p:spPr>
      </p:pic>
      <p:sp>
        <p:nvSpPr>
          <p:cNvPr id="179" name="TextovéPole 6"/>
          <p:cNvSpPr/>
          <p:nvPr/>
        </p:nvSpPr>
        <p:spPr>
          <a:xfrm>
            <a:off x="890640" y="8618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lší rozvoj Cestovní m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ovéPole 1"/>
          <p:cNvSpPr/>
          <p:nvPr/>
        </p:nvSpPr>
        <p:spPr>
          <a:xfrm>
            <a:off x="826920" y="1700280"/>
            <a:ext cx="777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ální verze dokumentu Cestovní mapa bude odevzdán zadavateli (Ministerstvu průmyslu a obchodu)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 30.6.20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méně i po tomto termínu bude dokument průběžně aktualizován podle postupu realizace VRT a využívání nových technolo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ě bude probíha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up implementace závěrů dokument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praxe, tj. prosazování moderních technologií a podpora účasti českých subjektů v proce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ležitou činností bude i podpora získávání nových železničních odborní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alizace VRT je jedna z nejvýznamnějších investičních akcí v Č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ástupný symbol pro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atum:   27. 5. 2022                                  Místo: Pra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zápatí 2"/>
          <p:cNvSpPr/>
          <p:nvPr/>
        </p:nvSpPr>
        <p:spPr>
          <a:xfrm>
            <a:off x="3924360" y="6245280"/>
            <a:ext cx="36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 Narrow"/>
                <a:ea typeface="Calibri"/>
              </a:rPr>
              <a:t>Závěrečná odborná konference projektu Cestovní mapa modernizace silniční dopr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9348-3C53-486C-8198-ACFD3F08002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http://www.zubrizeme.cz/obrazky/texty-doprovodne/84-op-pik-logo.png"/>
          <p:cNvPicPr/>
          <p:nvPr/>
        </p:nvPicPr>
        <p:blipFill>
          <a:blip r:embed="rId1"/>
          <a:stretch/>
        </p:blipFill>
        <p:spPr>
          <a:xfrm>
            <a:off x="539640" y="19080"/>
            <a:ext cx="3025800" cy="822240"/>
          </a:xfrm>
          <a:prstGeom prst="rect">
            <a:avLst/>
          </a:prstGeom>
          <a:ln w="0">
            <a:noFill/>
          </a:ln>
        </p:spPr>
      </p:pic>
      <p:pic>
        <p:nvPicPr>
          <p:cNvPr id="185" name="Obrázek 10" descr="logo platforma finale pro zpravodaj.jpg"/>
          <p:cNvPicPr/>
          <p:nvPr/>
        </p:nvPicPr>
        <p:blipFill>
          <a:blip r:embed="rId2"/>
          <a:stretch/>
        </p:blipFill>
        <p:spPr>
          <a:xfrm>
            <a:off x="6227640" y="38160"/>
            <a:ext cx="2502000" cy="64764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6"/>
          <p:cNvSpPr/>
          <p:nvPr/>
        </p:nvSpPr>
        <p:spPr>
          <a:xfrm>
            <a:off x="1332000" y="1628640"/>
            <a:ext cx="720072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 Narrow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Ing. Jaroslav Vašát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Narrow"/>
              </a:rPr>
              <a:t>Vedoucí Projektového týmu projektu VRT-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Narrow"/>
              </a:rPr>
              <a:t>jv94@atlas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Technologická plat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Interoperabilita železniční infrastruktu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DE54-3BBF-4AB1-89A2-0BEBF509DB3A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Nadpis 2"/>
          <p:cNvSpPr/>
          <p:nvPr/>
        </p:nvSpPr>
        <p:spPr>
          <a:xfrm>
            <a:off x="598320" y="1062000"/>
            <a:ext cx="74203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ázek 10" descr="logo platforma finale pro zpravodaj.jpg"/>
          <p:cNvPicPr/>
          <p:nvPr/>
        </p:nvPicPr>
        <p:blipFill>
          <a:blip r:embed="rId1"/>
          <a:stretch/>
        </p:blipFill>
        <p:spPr>
          <a:xfrm>
            <a:off x="6227640" y="38160"/>
            <a:ext cx="250200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http://www.zubrizeme.cz/obrazky/texty-doprovodne/84-op-pik-logo.png"/>
          <p:cNvPicPr/>
          <p:nvPr/>
        </p:nvPicPr>
        <p:blipFill>
          <a:blip r:embed="rId2"/>
          <a:stretch/>
        </p:blipFill>
        <p:spPr>
          <a:xfrm>
            <a:off x="539640" y="19080"/>
            <a:ext cx="3025800" cy="822240"/>
          </a:xfrm>
          <a:prstGeom prst="rect">
            <a:avLst/>
          </a:prstGeom>
          <a:ln w="0">
            <a:noFill/>
          </a:ln>
        </p:spPr>
      </p:pic>
      <p:sp>
        <p:nvSpPr>
          <p:cNvPr id="98" name="Zástupný symbol pro zápatí 2"/>
          <p:cNvSpPr/>
          <p:nvPr/>
        </p:nvSpPr>
        <p:spPr>
          <a:xfrm>
            <a:off x="3708360" y="624528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 Narrow"/>
                <a:ea typeface="Calibri"/>
              </a:rPr>
              <a:t>Závěrečná odborná konference projektu Cestovní mapa modernizace silniční dopr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10A1-C7C5-4F57-9615-11B6BE4055D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ástupný symbol pro datum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atum:   27. 5. 2022                                Místo: Pra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1"/>
          <p:cNvSpPr/>
          <p:nvPr/>
        </p:nvSpPr>
        <p:spPr>
          <a:xfrm>
            <a:off x="1547640" y="106200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stovní 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2"/>
          <p:cNvSpPr/>
          <p:nvPr/>
        </p:nvSpPr>
        <p:spPr>
          <a:xfrm>
            <a:off x="900000" y="162864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chnologická platforma je řešitelem projektu MPO (OPPIK)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ysokorychlostní tratě – budoucnost udržitelné mobility ČR (VRT-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líčovým dokumentem projektu VRT-B je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estovní m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ílem dokumentu Cestovní mapa je stanovení postupu zavádění  moderních technologií při přípravě a realizaci vysokorychlostních tratí v ČR a podpora zapojení českých subjektů do tohoto proce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i návrhu moderních technologií se vycházelo z mezinárodních a národních strategických dokumen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 mezinárodních dokumentů to byly především strategické dokumenty ETP ERRA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43BC-95E6-4299-B9E3-926456D553B1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obsah 1"/>
          <p:cNvSpPr/>
          <p:nvPr/>
        </p:nvSpPr>
        <p:spPr>
          <a:xfrm>
            <a:off x="351000" y="2371680"/>
            <a:ext cx="83595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rázek 10" descr="logo platforma finale pro zpravodaj.jpg"/>
          <p:cNvPicPr/>
          <p:nvPr/>
        </p:nvPicPr>
        <p:blipFill>
          <a:blip r:embed="rId1"/>
          <a:stretch/>
        </p:blipFill>
        <p:spPr>
          <a:xfrm>
            <a:off x="6227640" y="38160"/>
            <a:ext cx="250200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zubrizeme.cz/obrazky/texty-doprovodne/84-op-pik-logo.png"/>
          <p:cNvPicPr/>
          <p:nvPr/>
        </p:nvPicPr>
        <p:blipFill>
          <a:blip r:embed="rId2"/>
          <a:stretch/>
        </p:blipFill>
        <p:spPr>
          <a:xfrm>
            <a:off x="539640" y="19080"/>
            <a:ext cx="3025800" cy="822240"/>
          </a:xfrm>
          <a:prstGeom prst="rect">
            <a:avLst/>
          </a:prstGeom>
          <a:ln w="0">
            <a:noFill/>
          </a:ln>
        </p:spPr>
      </p:pic>
      <p:sp>
        <p:nvSpPr>
          <p:cNvPr id="10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D71C-53EE-464B-8D39-C5DC7A39BF4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ástupný symbol pro datum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atum:   27. 5. 2022                                  Místo: Prah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ástupný symbol pro zápatí 5"/>
          <p:cNvSpPr/>
          <p:nvPr/>
        </p:nvSpPr>
        <p:spPr>
          <a:xfrm>
            <a:off x="4067280" y="6172200"/>
            <a:ext cx="360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 Narrow"/>
                <a:ea typeface="Calibri"/>
              </a:rPr>
              <a:t>Závěrečná odborná konference projektu Cestovní mapa modernizace silniční dopr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3"/>
          <p:cNvSpPr/>
          <p:nvPr/>
        </p:nvSpPr>
        <p:spPr>
          <a:xfrm>
            <a:off x="900000" y="1920960"/>
            <a:ext cx="7704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rázek 2" descr=""/>
          <p:cNvPicPr/>
          <p:nvPr/>
        </p:nvPicPr>
        <p:blipFill>
          <a:blip r:embed="rId3"/>
          <a:stretch/>
        </p:blipFill>
        <p:spPr>
          <a:xfrm>
            <a:off x="0" y="6858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FE3D-BF88-4756-A4D1-D1ACC6138137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obsah 1"/>
          <p:cNvSpPr/>
          <p:nvPr/>
        </p:nvSpPr>
        <p:spPr>
          <a:xfrm>
            <a:off x="1042920" y="1125360"/>
            <a:ext cx="84423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brázek 10" descr="logo platforma finale pro zpravodaj.jpg"/>
          <p:cNvPicPr/>
          <p:nvPr/>
        </p:nvPicPr>
        <p:blipFill>
          <a:blip r:embed="rId1"/>
          <a:stretch/>
        </p:blipFill>
        <p:spPr>
          <a:xfrm>
            <a:off x="6227640" y="38160"/>
            <a:ext cx="250200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://www.zubrizeme.cz/obrazky/texty-doprovodne/84-op-pik-logo.png"/>
          <p:cNvPicPr/>
          <p:nvPr/>
        </p:nvPicPr>
        <p:blipFill>
          <a:blip r:embed="rId2"/>
          <a:stretch/>
        </p:blipFill>
        <p:spPr>
          <a:xfrm>
            <a:off x="539640" y="19080"/>
            <a:ext cx="3025800" cy="82224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EEB0-247A-4B79-A3FF-2E05BAF9EDB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datum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atum:   27. 5. 2022                                  Místo: Pra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zápatí 5"/>
          <p:cNvSpPr/>
          <p:nvPr/>
        </p:nvSpPr>
        <p:spPr>
          <a:xfrm>
            <a:off x="3665520" y="6183360"/>
            <a:ext cx="3427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 Narrow"/>
                <a:ea typeface="Calibri"/>
              </a:rPr>
              <a:t>Závěrečná odborná konference projektu Cestovní mapa modernizace silniční dopr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ek 2" descr=""/>
          <p:cNvPicPr/>
          <p:nvPr/>
        </p:nvPicPr>
        <p:blipFill>
          <a:blip r:embed="rId3"/>
          <a:stretch/>
        </p:blipFill>
        <p:spPr>
          <a:xfrm>
            <a:off x="250920" y="685800"/>
            <a:ext cx="8797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1F56-FAAA-4C94-808A-0AA094AFE0F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rázek 10" descr="logo platforma finale pro zpravodaj.jpg"/>
          <p:cNvPicPr/>
          <p:nvPr/>
        </p:nvPicPr>
        <p:blipFill>
          <a:blip r:embed="rId1"/>
          <a:stretch/>
        </p:blipFill>
        <p:spPr>
          <a:xfrm>
            <a:off x="6227640" y="38160"/>
            <a:ext cx="2502000" cy="64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www.zubrizeme.cz/obrazky/texty-doprovodne/84-op-pik-logo.png"/>
          <p:cNvPicPr/>
          <p:nvPr/>
        </p:nvPicPr>
        <p:blipFill>
          <a:blip r:embed="rId2"/>
          <a:stretch/>
        </p:blipFill>
        <p:spPr>
          <a:xfrm>
            <a:off x="539640" y="19080"/>
            <a:ext cx="302580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E16D-C174-4497-9B5B-5A7D09E81B1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ástupný symbol pro datum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atum:   27. 5.2022                                  Místo: Prah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5"/>
          <p:cNvSpPr/>
          <p:nvPr/>
        </p:nvSpPr>
        <p:spPr>
          <a:xfrm>
            <a:off x="3851280" y="6245280"/>
            <a:ext cx="33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 Narrow"/>
                <a:ea typeface="Calibri"/>
              </a:rPr>
              <a:t>Závěrečná odborná konference projektu Cestovní mapa modernizace silniční dopr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1"/>
          <p:cNvSpPr/>
          <p:nvPr/>
        </p:nvSpPr>
        <p:spPr>
          <a:xfrm>
            <a:off x="900000" y="9367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ledované subsystémy a obl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ovéPole 2"/>
          <p:cNvSpPr/>
          <p:nvPr/>
        </p:nvSpPr>
        <p:spPr>
          <a:xfrm>
            <a:off x="900000" y="1844640"/>
            <a:ext cx="77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stovní map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eduje nasazování nových technologií v následují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systéme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ystém Infrastruk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ystém Energ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ystém Řízení a zabezpeč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ystém Rozhraní (kolejové vozidlo – žel. infrastruktu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last Výchovy a vzděl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63A6-97CF-4C6A-B72E-0DCBDCF71A59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10" descr="logo platforma finale pro zpravodaj.jpg"/>
          <p:cNvPicPr/>
          <p:nvPr/>
        </p:nvPicPr>
        <p:blipFill>
          <a:blip r:embed="rId1"/>
          <a:stretch/>
        </p:blipFill>
        <p:spPr>
          <a:xfrm>
            <a:off x="6227640" y="38160"/>
            <a:ext cx="2502000" cy="64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http://www.zubrizeme.cz/obrazky/texty-doprovodne/84-op-pik-logo.png"/>
          <p:cNvPicPr/>
          <p:nvPr/>
        </p:nvPicPr>
        <p:blipFill>
          <a:blip r:embed="rId2"/>
          <a:stretch/>
        </p:blipFill>
        <p:spPr>
          <a:xfrm>
            <a:off x="539640" y="19080"/>
            <a:ext cx="3025800" cy="822240"/>
          </a:xfrm>
          <a:prstGeom prst="rect">
            <a:avLst/>
          </a:prstGeom>
          <a:ln w="0">
            <a:noFill/>
          </a:ln>
        </p:spPr>
      </p:pic>
      <p:sp>
        <p:nvSpPr>
          <p:cNvPr id="13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CA1A-676F-4375-B3AA-0C463734873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ástupný symbol pro datum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atum:    27. 5. 2022                                  Místo: Prah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5"/>
          <p:cNvSpPr/>
          <p:nvPr/>
        </p:nvSpPr>
        <p:spPr>
          <a:xfrm>
            <a:off x="3657600" y="6245280"/>
            <a:ext cx="3651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 Narrow"/>
                <a:ea typeface="Calibri"/>
              </a:rPr>
              <a:t>Závěrečná odborná konference projektu Cestovní mapa modernizace silniční dopr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1"/>
          <p:cNvSpPr/>
          <p:nvPr/>
        </p:nvSpPr>
        <p:spPr>
          <a:xfrm>
            <a:off x="826920" y="154620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971640" y="1125360"/>
            <a:ext cx="120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8"/>
          <p:cNvSpPr/>
          <p:nvPr/>
        </p:nvSpPr>
        <p:spPr>
          <a:xfrm>
            <a:off x="573120" y="860400"/>
            <a:ext cx="81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ity oblasti Výchova a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"/>
          <p:cNvSpPr/>
          <p:nvPr/>
        </p:nvSpPr>
        <p:spPr>
          <a:xfrm>
            <a:off x="682560" y="1644480"/>
            <a:ext cx="7778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tvoření orgánu, odpovědného za spolupráci železnice se školstv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rgán zodpovědný za fungující spolupráci železničního školství a železniční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tvoření dlouhodobého systematického programu zaměřeného na přípravu odborníků pro želez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dializace a podpora technických profe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odel personální potřeby odborníků pro přípravu a realizaci VR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na základě obratové analýzy byl vytvořen model personální potřeby odborníků pro plánování, přípravu, výstavbu, provoz a údržbu VRT. Personální model je řešen pro období předpokládané realizace VRT v ČR – 2021-2050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3345-46B7-4DC0-A10A-F89139558A50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ázek 10" descr="logo platforma finale pro zpravodaj.jpg"/>
          <p:cNvPicPr/>
          <p:nvPr/>
        </p:nvPicPr>
        <p:blipFill>
          <a:blip r:embed="rId1"/>
          <a:stretch/>
        </p:blipFill>
        <p:spPr>
          <a:xfrm>
            <a:off x="6227640" y="38160"/>
            <a:ext cx="250200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http://www.zubrizeme.cz/obrazky/texty-doprovodne/84-op-pik-logo.png"/>
          <p:cNvPicPr/>
          <p:nvPr/>
        </p:nvPicPr>
        <p:blipFill>
          <a:blip r:embed="rId2"/>
          <a:stretch/>
        </p:blipFill>
        <p:spPr>
          <a:xfrm>
            <a:off x="539640" y="19080"/>
            <a:ext cx="3025800" cy="822240"/>
          </a:xfrm>
          <a:prstGeom prst="rect">
            <a:avLst/>
          </a:prstGeom>
          <a:ln w="0">
            <a:noFill/>
          </a:ln>
        </p:spPr>
      </p:pic>
      <p:sp>
        <p:nvSpPr>
          <p:cNvPr id="14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2C15-3239-4518-9367-482C380EE19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pro datum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atum:   27. 5. 2022                                  Místo: Prah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zápatí 5"/>
          <p:cNvSpPr/>
          <p:nvPr/>
        </p:nvSpPr>
        <p:spPr>
          <a:xfrm>
            <a:off x="3575160" y="6168960"/>
            <a:ext cx="351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 Narrow"/>
                <a:ea typeface="Calibri"/>
              </a:rPr>
              <a:t>Závěrečná odborná konference projektu Cestovní mapa modernizace silniční dopr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"/>
          <p:cNvSpPr/>
          <p:nvPr/>
        </p:nvSpPr>
        <p:spPr>
          <a:xfrm>
            <a:off x="826920" y="154620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971640" y="1125360"/>
            <a:ext cx="120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8"/>
          <p:cNvSpPr/>
          <p:nvPr/>
        </p:nvSpPr>
        <p:spPr>
          <a:xfrm>
            <a:off x="573120" y="860400"/>
            <a:ext cx="81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odel personální potřeby pro V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Obrázek 11" descr=""/>
          <p:cNvPicPr/>
          <p:nvPr/>
        </p:nvPicPr>
        <p:blipFill>
          <a:blip r:embed="rId3"/>
          <a:stretch/>
        </p:blipFill>
        <p:spPr>
          <a:xfrm>
            <a:off x="414360" y="1546200"/>
            <a:ext cx="79027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7C02-6BEB-4637-B9C5-50EAEE8BF060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ázek 10" descr="logo platforma finale pro zpravodaj.jpg"/>
          <p:cNvPicPr/>
          <p:nvPr/>
        </p:nvPicPr>
        <p:blipFill>
          <a:blip r:embed="rId1"/>
          <a:stretch/>
        </p:blipFill>
        <p:spPr>
          <a:xfrm>
            <a:off x="6227640" y="38160"/>
            <a:ext cx="2502000" cy="64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ttp://www.zubrizeme.cz/obrazky/texty-doprovodne/84-op-pik-logo.png"/>
          <p:cNvPicPr/>
          <p:nvPr/>
        </p:nvPicPr>
        <p:blipFill>
          <a:blip r:embed="rId2"/>
          <a:stretch/>
        </p:blipFill>
        <p:spPr>
          <a:xfrm>
            <a:off x="573120" y="299880"/>
            <a:ext cx="3025800" cy="822600"/>
          </a:xfrm>
          <a:prstGeom prst="rect">
            <a:avLst/>
          </a:prstGeom>
          <a:ln w="0">
            <a:noFill/>
          </a:ln>
        </p:spPr>
      </p:pic>
      <p:sp>
        <p:nvSpPr>
          <p:cNvPr id="15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69AD-C07E-49AB-BFBD-431A110F004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datum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atum:    27. 5. 2022                                  Místo: Prah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zápatí 5"/>
          <p:cNvSpPr/>
          <p:nvPr/>
        </p:nvSpPr>
        <p:spPr>
          <a:xfrm>
            <a:off x="4100400" y="6230880"/>
            <a:ext cx="342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 Narrow"/>
                <a:ea typeface="Calibri"/>
              </a:rPr>
              <a:t>Závěrečná odborná konference projektu Cestovní mapa modernizace silniční dopr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1"/>
          <p:cNvSpPr/>
          <p:nvPr/>
        </p:nvSpPr>
        <p:spPr>
          <a:xfrm>
            <a:off x="782640" y="168588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971640" y="1125360"/>
            <a:ext cx="120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8"/>
          <p:cNvSpPr/>
          <p:nvPr/>
        </p:nvSpPr>
        <p:spPr>
          <a:xfrm>
            <a:off x="638280" y="1243080"/>
            <a:ext cx="81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uhrnný harmonogram realizace V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kt 1"/>
          <p:cNvGraphicFramePr/>
          <p:nvPr/>
        </p:nvGraphicFramePr>
        <p:xfrm>
          <a:off x="3957480" y="3241800"/>
          <a:ext cx="122724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k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7480" y="3241800"/>
                    <a:ext cx="122724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Obrázek 11" descr="Souhrnný HMG.jpg"/>
          <p:cNvPicPr/>
          <p:nvPr/>
        </p:nvPicPr>
        <p:blipFill>
          <a:blip r:embed="rId5"/>
          <a:stretch/>
        </p:blipFill>
        <p:spPr>
          <a:xfrm>
            <a:off x="324000" y="981000"/>
            <a:ext cx="83516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Zástupný symbol pro datum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atum:    27. 5. 2022                                  Místo: Pra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zápatí 2"/>
          <p:cNvSpPr/>
          <p:nvPr/>
        </p:nvSpPr>
        <p:spPr>
          <a:xfrm>
            <a:off x="4140360" y="6153120"/>
            <a:ext cx="33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 Narrow"/>
                <a:ea typeface="Calibri"/>
              </a:rPr>
              <a:t>Závěrečná odborná konference projektu Cestovní mapa modernizace silniční dopra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5AD0-5143-4FFF-9C36-685890F1258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http://www.zubrizeme.cz/obrazky/texty-doprovodne/84-op-pik-logo.png"/>
          <p:cNvPicPr/>
          <p:nvPr/>
        </p:nvPicPr>
        <p:blipFill>
          <a:blip r:embed="rId1"/>
          <a:stretch/>
        </p:blipFill>
        <p:spPr>
          <a:xfrm>
            <a:off x="539640" y="19080"/>
            <a:ext cx="3025800" cy="82224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0" descr="logo platforma finale pro zpravodaj.jpg"/>
          <p:cNvPicPr/>
          <p:nvPr/>
        </p:nvPicPr>
        <p:blipFill>
          <a:blip r:embed="rId2"/>
          <a:stretch/>
        </p:blipFill>
        <p:spPr>
          <a:xfrm>
            <a:off x="6227640" y="38160"/>
            <a:ext cx="2502000" cy="647640"/>
          </a:xfrm>
          <a:prstGeom prst="rect">
            <a:avLst/>
          </a:prstGeom>
          <a:ln w="0">
            <a:noFill/>
          </a:ln>
        </p:spPr>
      </p:pic>
      <p:sp>
        <p:nvSpPr>
          <p:cNvPr id="165" name="TextovéPole 6"/>
          <p:cNvSpPr/>
          <p:nvPr/>
        </p:nvSpPr>
        <p:spPr>
          <a:xfrm>
            <a:off x="890640" y="8618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čast českých společností na realizaci V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7"/>
          <p:cNvSpPr/>
          <p:nvPr/>
        </p:nvSpPr>
        <p:spPr>
          <a:xfrm>
            <a:off x="933480" y="1841400"/>
            <a:ext cx="77961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jem českých společností byl získán dvěma dotazníkovými akce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dotazníková akce byla směřována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niverzity a velké společn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sloveno 56 společností – zájem projevilo 12 společno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uhá dotazníková akce byla směřována na malé střední podniky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– osloveno bylo 25 MSP – zájem projevilo 10 M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i, které projevily zájem o zapojení do procesu přípravy a realizace VRT budou zařazeny d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Katalogu společností a institucí“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ý bude umístěn na portál Hospodářské komory Č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talog bude otevřený i pro další společnosti, které v budoucnu o zapojení do procesu VRT projeví záj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0T20:25:10Z</dcterms:created>
  <dc:creator>Holoubková Věra</dc:creator>
  <dc:description/>
  <dc:language>en-US</dc:language>
  <cp:lastModifiedBy>Fencl</cp:lastModifiedBy>
  <dcterms:modified xsi:type="dcterms:W3CDTF">2022-05-20T08:44:24Z</dcterms:modified>
  <cp:revision>497</cp:revision>
  <dc:subject/>
  <dc:title>Czech Technology Platform</dc:title>
</cp:coreProperties>
</file>